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06274"/>
        <c:axId val="19280476"/>
      </c:barChart>
      <c:catAx>
        <c:axId val="64706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80476"/>
        <c:crosses val="autoZero"/>
        <c:auto val="1"/>
        <c:lblAlgn val="ctr"/>
        <c:lblOffset val="100"/>
        <c:noMultiLvlLbl val="0"/>
      </c:catAx>
      <c:valAx>
        <c:axId val="19280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06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12C-01A5-49B3-9A94-BF30724D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F7D-54D9-4A8B-AD94-E7D1853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3F9-CD4A-427B-95E9-EB29ACAD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400-F07E-4B73-A46D-132565FE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1AE-D1D7-4085-BE56-C30BE3D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4B1-0A71-4FD9-A1C9-0EE8B7B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E7E-061C-4E08-9DD0-13663AA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BF7-F5CD-42E9-82D9-EF43236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11A-EC62-4A74-8473-5ED0E7CC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70E-C706-4B85-931C-B950B8A9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709-2E8A-4F10-89DE-1ADCDD4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9F6-A8BE-4E1C-8348-748745B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D9AE5-61B3-4A6F-ACDE-9A0A7C48D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