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84452"/>
        <c:axId val="96333738"/>
      </c:barChart>
      <c:catAx>
        <c:axId val="43384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33738"/>
        <c:crosses val="autoZero"/>
        <c:auto val="1"/>
        <c:lblAlgn val="ctr"/>
        <c:lblOffset val="100"/>
        <c:noMultiLvlLbl val="0"/>
      </c:catAx>
      <c:valAx>
        <c:axId val="96333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84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FC3-AD75-41A0-B4D6-E7B4C720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4B3B-0678-4978-AECA-EACB63E4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961-1320-466D-AAAB-65A886CF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DDC-E404-45F2-BB9C-99462868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AF3-83F3-4B5E-A8EA-987E78F2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D5C-69CD-40A8-A2FF-C4B3893F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24E-86E8-4AC2-96BC-10CA74AC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733-CA45-4609-B0CA-C961723B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D767-19EF-4033-AF52-B44A812B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015-546E-472D-B7A4-5886142C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BF3-6E3E-4D5B-BC7F-F8364176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081F-9501-43F2-B215-3A357A1A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2F4E1-8077-4BEB-937A-8CE05BC74D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