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772867"/>
        <c:axId val="41023711"/>
      </c:barChart>
      <c:catAx>
        <c:axId val="877728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023711"/>
        <c:crosses val="autoZero"/>
        <c:auto val="1"/>
        <c:lblAlgn val="ctr"/>
        <c:lblOffset val="100"/>
        <c:noMultiLvlLbl val="0"/>
      </c:catAx>
      <c:valAx>
        <c:axId val="410237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7728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D38F-18B1-492E-AE4F-99CB7EEC9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2752-E251-4AC5-B837-892AF46DA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2553-B80A-4C7D-8DCE-E7BE472D1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52F3-3163-42AB-BF33-FBE5B2563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CE9F-EDD0-4232-BDFF-273ABC392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668B-3A82-448E-8346-741A88CC0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A083-E17B-4236-B338-749517914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49F5-9B46-4E5C-B334-DCFE01E04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F828-7223-4276-B53A-30F37E7F0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6B85-BF5F-4E02-A18C-C668B4990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0C30-F592-455D-835E-C3C16B852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7D9E-39C6-4547-8A4F-21B707844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77B7F4-65F0-422F-93C6-763EAC98634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