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38468"/>
        <c:axId val="80926144"/>
      </c:barChart>
      <c:catAx>
        <c:axId val="46838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26144"/>
        <c:crosses val="autoZero"/>
        <c:auto val="1"/>
        <c:lblAlgn val="ctr"/>
        <c:lblOffset val="100"/>
        <c:noMultiLvlLbl val="0"/>
      </c:catAx>
      <c:valAx>
        <c:axId val="809261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38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6B4-D1ED-4BB8-8EF5-0A5246CA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9706-3935-477D-8874-B2722422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076-BA97-4CF4-B92B-7EA22C80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DFE-E88E-4150-A482-77FAA58F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B27-383F-42E0-8E0F-2A1F7AC9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70AC-3E79-4B74-A9E3-334E1451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CA0-FA64-4CC6-8698-8FE5CED8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2DD-5D11-40A5-8075-8C958BA9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584-A1BF-4981-8A2B-7C6923BF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6CB-D186-4C0B-B899-A3511F30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CA0-DA04-41F4-9606-81DEB54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C60-E520-468E-B49F-7B8D34D7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03290-ACBE-4DD3-AAC4-3597B092B9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