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59509"/>
        <c:axId val="72841636"/>
      </c:barChart>
      <c:catAx>
        <c:axId val="60859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41636"/>
        <c:crosses val="autoZero"/>
        <c:auto val="1"/>
        <c:lblAlgn val="ctr"/>
        <c:lblOffset val="100"/>
        <c:noMultiLvlLbl val="0"/>
      </c:catAx>
      <c:valAx>
        <c:axId val="728416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59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90A-4539-44FD-BCEC-992894A4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E0B-8EA8-438B-B2D3-CC2755B6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743-221A-4573-A84E-2DA8A2AE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F327-C694-4BEA-A7B8-46F2D7C8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BD0-2271-4C76-877F-8A5EE261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425-AF98-41F4-81ED-36473D44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CA21-B75E-4586-ACD3-E10AD277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230-E9F3-49B1-99A2-B662834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5D17-F270-4266-B95A-7B7E5A67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460-146B-45ED-A459-99049B7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900-D1E3-4A7D-A3AA-9E06371F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7F2-B3BC-4DE0-8464-8CA6106C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FAD90-2113-4A9E-B2CB-15503586D3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