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52607"/>
        <c:axId val="91216341"/>
      </c:barChart>
      <c:catAx>
        <c:axId val="47852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16341"/>
        <c:crosses val="autoZero"/>
        <c:auto val="1"/>
        <c:lblAlgn val="ctr"/>
        <c:lblOffset val="100"/>
        <c:noMultiLvlLbl val="0"/>
      </c:catAx>
      <c:valAx>
        <c:axId val="91216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52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ADF-B504-4C76-AB30-551C3DEE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5E8-1FDE-4EAB-A5D3-54E7C5FE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DED-76E0-48D2-BD74-224F7486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607-1726-4985-9215-52D5388F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1635-9751-45F2-A239-79B4F380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EBE-4A43-4990-BA9B-519D9A98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ED6-05A5-4C2C-8D06-96AFF5EF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87D-D7BC-44EF-98F9-704A444B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BEF-8152-46AC-BC73-B5C03B7E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AB2-DDF8-4512-871A-10BCF555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C4D-2DD9-430B-B4FB-A88AA935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5ED-4EAA-4356-B615-EE1FF3B2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0DDDB-BAFE-4807-BC65-A9DAC239CB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