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50174"/>
        <c:axId val="71133113"/>
      </c:barChart>
      <c:catAx>
        <c:axId val="38150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33113"/>
        <c:crosses val="autoZero"/>
        <c:auto val="1"/>
        <c:lblAlgn val="ctr"/>
        <c:lblOffset val="100"/>
        <c:noMultiLvlLbl val="0"/>
      </c:catAx>
      <c:valAx>
        <c:axId val="71133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50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B28-E5FF-4428-AD4E-2DAA2AC9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BFB-DB87-443D-BF54-271DEF31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E11-7F83-4FFD-83D6-898F173A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258-7F34-4333-9080-2C7CEB05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B59-99FF-401C-A9DA-A57697DE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C13-1C8A-4C2D-A770-5D55D2AD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F62-924E-4566-8000-7335F1C0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486-CE7A-43C8-89C1-F39D26A5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501-021E-4AA3-B61A-D35E8BA5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C82-0F71-44B5-9D08-9712EDF2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E95-FF18-4B93-B714-B2ACC63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43F-3382-4D31-A3CB-D6E40269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8C341-2C29-44D5-AE6D-887131FA28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