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24968"/>
        <c:axId val="75150477"/>
      </c:barChart>
      <c:catAx>
        <c:axId val="24924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50477"/>
        <c:crosses val="autoZero"/>
        <c:auto val="1"/>
        <c:lblAlgn val="ctr"/>
        <c:lblOffset val="100"/>
        <c:noMultiLvlLbl val="0"/>
      </c:catAx>
      <c:valAx>
        <c:axId val="75150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24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AB2F-5833-47FB-956B-24D90085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B98-80E2-4A5E-A7D5-147E35C0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FA5-BB31-49F8-96E1-3EBD92ED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D0B-0364-4A2E-8515-79680684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A88-A873-493B-9564-2F32C2AA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24F-EF9B-46C7-8997-55AE50EE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381-23EF-4EFC-AE06-2991826E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5C2-BC6C-45FC-88F7-D8971CAA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486-1569-4E5B-AE90-C7FF402E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107-0681-4B03-BF61-A6DD25C4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7C2-A502-43EF-9C03-ECAF0F2E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C3C-D971-48F1-BEF7-4D0E5DD3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92F13-9547-4040-A491-FB3422E42B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