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53996"/>
        <c:axId val="37471105"/>
      </c:barChart>
      <c:catAx>
        <c:axId val="47053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71105"/>
        <c:crosses val="autoZero"/>
        <c:auto val="1"/>
        <c:lblAlgn val="ctr"/>
        <c:lblOffset val="100"/>
        <c:noMultiLvlLbl val="0"/>
      </c:catAx>
      <c:valAx>
        <c:axId val="37471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53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1AC-7864-4698-BC3E-3F2128EC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5F1-EFDF-43DF-BD96-9607D5D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C8D-24F4-4298-BF20-C8165513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F1B-AB46-4AF2-BF98-1050A66D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262-A75B-4BCE-8DC9-6731915F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4B3-A24C-4434-8253-54E5A9E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8FD-C09D-425C-88AF-73DADBD8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085-2EDD-497B-8D80-D962AD4E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E50-AB0D-4FF3-8395-9D7A3601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67E-D105-4F4E-B000-1A71D5A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BF7-0AD5-42FD-97B0-78BD6E16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A9E-7D39-479E-851E-A9FD97A4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8F8E6-66AF-4C72-8AEC-4C533108B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