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43366"/>
        <c:axId val="89757789"/>
      </c:barChart>
      <c:catAx>
        <c:axId val="45443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57789"/>
        <c:crosses val="autoZero"/>
        <c:auto val="1"/>
        <c:lblAlgn val="ctr"/>
        <c:lblOffset val="100"/>
        <c:noMultiLvlLbl val="0"/>
      </c:catAx>
      <c:valAx>
        <c:axId val="89757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43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532-C864-4E58-9DC7-31AE04B6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23C-3BC0-49A7-8011-78B9406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6A4-C708-417B-8641-B2737DFD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363-2E6A-41AA-8784-57FD6FE8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A79-0EF8-4795-B1B2-3F7CE7E9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BF6-A65F-4EC6-A36D-EBEC2BD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941-67D7-4785-B2DD-FE2AC7AA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DAA-4ED2-41A1-ACB1-F9787DD1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57F-0611-4178-AB1A-778FA9F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5B8-E242-4CC3-94C0-AE35F79D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DED-819C-4AA5-A43F-85061B42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69B-012A-4857-99F7-8EDD052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B2E25-FD95-4757-B7CF-3F1512A48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