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46349"/>
        <c:axId val="78465162"/>
      </c:barChart>
      <c:catAx>
        <c:axId val="36346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65162"/>
        <c:crosses val="autoZero"/>
        <c:auto val="1"/>
        <c:lblAlgn val="ctr"/>
        <c:lblOffset val="100"/>
        <c:noMultiLvlLbl val="0"/>
      </c:catAx>
      <c:valAx>
        <c:axId val="78465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46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406-BD51-4075-BD3B-55977F33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29B-2D99-4F59-937C-939A3769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4FC-FD39-4144-ABD8-2990893C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51A-B038-4063-8082-DB663C39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673-3059-4679-9475-43AAB39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680-4604-4786-9A43-AA1C3A51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282-14BB-4D19-8BD1-3C44471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1BF-D027-4A30-9DF0-9065E8AA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394-C3B4-49DF-A343-C71C2099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BC2-0832-4756-B520-E33C1D5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510-764C-4E3E-8A5F-8C4322F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FE8-2D40-4D76-BED7-30E44FC6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48B6-3B33-49C9-9F07-9ED521EDB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