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01646"/>
        <c:axId val="29681035"/>
      </c:barChart>
      <c:catAx>
        <c:axId val="73701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81035"/>
        <c:crosses val="autoZero"/>
        <c:auto val="1"/>
        <c:lblAlgn val="ctr"/>
        <c:lblOffset val="100"/>
        <c:noMultiLvlLbl val="0"/>
      </c:catAx>
      <c:valAx>
        <c:axId val="29681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01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C87-7013-40B6-9433-E1E01BE1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A54-B269-463D-AAE8-FE4BBFE5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C20-9BFD-4A57-987D-AE2ABA22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4AC-29CF-466D-B8B1-6A8EAE62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747-833D-4164-BCB2-6F45893E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E27-AC32-48DA-BF3C-A7594E3B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1A5-FC97-4BAD-98B7-1FAD861B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57C-4A87-4BA9-987A-7E61989A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35F-9BA0-4992-96D9-D08A9D7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27F-AA62-41B0-9C5D-ED34630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D39-2D5D-47DF-8564-F20CD96C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DB3-6AFF-4D66-8D86-945A9B7B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77742-2670-40B9-996C-DDEC641568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