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52007"/>
        <c:axId val="36858649"/>
      </c:barChart>
      <c:catAx>
        <c:axId val="55152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58649"/>
        <c:crosses val="autoZero"/>
        <c:auto val="1"/>
        <c:lblAlgn val="ctr"/>
        <c:lblOffset val="100"/>
        <c:noMultiLvlLbl val="0"/>
      </c:catAx>
      <c:valAx>
        <c:axId val="36858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52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811-7E1E-430E-9F62-6141B0A4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7DF-9C3E-4E1A-9805-3F31D112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731-5BA4-49DF-B595-798F9D26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ED3-223E-4041-A9E9-D52B17F1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93B-05BD-401D-A30E-0AF94D09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6A1-56EE-4BB9-9DE0-F8DCBE69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B99-41D4-455E-9ED0-BEF809A3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A52-07CE-436B-9B19-3F8C3FD5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0B8-8538-45DA-BF06-2496949E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425-188D-47A1-B963-E2B911B0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AF6-E652-4149-B307-9834B690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701-1EE9-40CB-AAEF-E0370528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B4483-0735-43C8-BD6E-EC71CF2571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