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02782"/>
        <c:axId val="6626104"/>
      </c:barChart>
      <c:catAx>
        <c:axId val="57902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6104"/>
        <c:crosses val="autoZero"/>
        <c:auto val="1"/>
        <c:lblAlgn val="ctr"/>
        <c:lblOffset val="100"/>
        <c:noMultiLvlLbl val="0"/>
      </c:catAx>
      <c:valAx>
        <c:axId val="6626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2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B22-CC94-4199-9D3E-3F7F15CB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76C-FA56-42BC-A0BD-2143414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D1-7F94-4217-AD51-17AC96DB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65E-21C5-42E5-87B6-8FA2DA45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D0E-EB6A-4AAD-AAE2-B69FED2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021-21A2-48F7-851B-486F492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C62-8157-42BF-88FE-2EE8662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BC0-024B-4CE3-AF68-77D9AD1D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E9B-AB9A-4513-9D3A-1B9C6F5A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53E-76F4-45A8-B6ED-D2DD9F3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2B4-F4EB-4AB3-866E-A87F4DE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09D-9A66-47BF-B1FF-8F4CB1E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BA15F-DC33-4A03-90A7-5340DDACD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