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803931"/>
        <c:axId val="11674654"/>
      </c:barChart>
      <c:catAx>
        <c:axId val="168039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74654"/>
        <c:crosses val="autoZero"/>
        <c:auto val="1"/>
        <c:lblAlgn val="ctr"/>
        <c:lblOffset val="100"/>
        <c:noMultiLvlLbl val="0"/>
      </c:catAx>
      <c:valAx>
        <c:axId val="116746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039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D46A-1E0E-4362-85C4-D2732A03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DA8E-D4F1-4697-9C55-E63D81C4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BEAB-7B54-418F-A4B6-C46E5FAF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F214-D132-4103-A31B-98951D3A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F28D-8B3E-4E78-A92D-2CF652BC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4480-7FD5-41CB-B858-6665FB44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030C-E379-4E40-9E82-6C3016FB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552C-0400-43FD-AAB3-3DDA531E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1E9E-C72B-4657-817F-599F5CF1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A829-EE13-4D3D-B5DE-EAC427C0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2ED1-05C6-4112-BA1C-C84C6F4F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EA80-1BD7-45A2-BDD6-BD4080A7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D1B68-F1C3-404A-BEAE-5E02F1A93D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