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13830"/>
        <c:axId val="46841663"/>
      </c:barChart>
      <c:catAx>
        <c:axId val="26913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41663"/>
        <c:crosses val="autoZero"/>
        <c:auto val="1"/>
        <c:lblAlgn val="ctr"/>
        <c:lblOffset val="100"/>
        <c:noMultiLvlLbl val="0"/>
      </c:catAx>
      <c:valAx>
        <c:axId val="46841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13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153-8C5D-449E-9024-49501218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972-B66F-40C6-9298-1C6D8613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CE9-BCE8-4AEB-BA28-5436815F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984-9101-4EB3-98EB-3374BF8F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6CB-4E68-4D69-AD9C-3B151860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4B7-352A-45C7-9DA3-C3943D14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72B-80C3-425E-83EB-C26DC1D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354-CA8A-4959-9715-73D1A514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440-5EDE-4283-A860-5BC78800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397-15EF-40DD-B5AF-85F7D96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BCE-CF54-4B6B-AAC2-04A5EE0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339-A7AD-46A8-A42A-22C95D8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3D23D-CB90-45B8-B3BC-0FFA6FA94C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