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139864"/>
        <c:axId val="1292427"/>
      </c:barChart>
      <c:catAx>
        <c:axId val="961398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2427"/>
        <c:crosses val="autoZero"/>
        <c:auto val="1"/>
        <c:lblAlgn val="ctr"/>
        <c:lblOffset val="100"/>
        <c:noMultiLvlLbl val="0"/>
      </c:catAx>
      <c:valAx>
        <c:axId val="1292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398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0DC-C0BC-49D7-BE7D-DF1997B8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C75C-E8EE-4429-BF34-5C7CAF32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F386-CD03-40CB-9C03-D01F47B4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A2D3-0937-4491-A804-A8E448DB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F5BB-968B-4315-AF07-BEB4C173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333C-B6D5-47A1-959F-5F44B34D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B454-D441-4149-9A47-44934EFF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272-2128-400C-993C-D4C681BC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D2C3-A28C-4106-8378-C88A83F2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94E6-DC09-41F3-A20D-2CA4C8DB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179-8B25-412A-ABC0-5877408A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C86D-7404-45AD-8BA6-C5647BE6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7DEF5-337D-4E41-AB07-2AEACC47B9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