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79865"/>
        <c:axId val="23042058"/>
      </c:barChart>
      <c:catAx>
        <c:axId val="12379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2058"/>
        <c:crosses val="autoZero"/>
        <c:auto val="1"/>
        <c:lblAlgn val="ctr"/>
        <c:lblOffset val="100"/>
        <c:noMultiLvlLbl val="0"/>
      </c:catAx>
      <c:valAx>
        <c:axId val="23042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9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DE2-A1A1-4596-932A-87E64ADC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CE-4647-4CFC-88A6-16752B8F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0FE-3626-4F5E-AE52-066AA6A9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62D-78BF-455A-864D-E4E00E82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E01-01A5-4FF7-A94D-8D2DF22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9CD-D94E-4525-B09C-6CEAB739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EC8-233A-49F8-9F8F-F8CFE259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119-BDDB-4949-B473-95B2133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D82-3705-4C63-9A1B-928E694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3AD-CC15-4EE9-AE4C-022F449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2C2-DB2D-4F4E-8E99-21741C9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7FA-B8A5-480B-A96E-4045442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41962-EC22-4B5B-9CA1-A6F2C7799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