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49718"/>
        <c:axId val="77623709"/>
      </c:barChart>
      <c:catAx>
        <c:axId val="29049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23709"/>
        <c:crosses val="autoZero"/>
        <c:auto val="1"/>
        <c:lblAlgn val="ctr"/>
        <c:lblOffset val="100"/>
        <c:noMultiLvlLbl val="0"/>
      </c:catAx>
      <c:valAx>
        <c:axId val="77623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49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430-2C62-4913-B14D-38B083C2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9BC-921A-4038-94C7-FDC50427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69E-B008-4E91-9628-9EB120F5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01A-0DA8-4FCE-8A65-2DB7277E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7F0-DC2D-4CE9-835C-8DBD30E0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96D-3FB3-460E-87D3-3A7C8241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BC9-D740-4066-83AC-78C44961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47B-F7EB-4B7D-BBC7-AB568C7E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0B2-97AD-45BB-941E-14D3DA5F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7E0-E833-46A6-93DF-5FE60DEC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250-FD00-4C6B-816E-01E26693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92A-5D27-441A-97D2-F877D578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B4D8E-E9D8-4B92-9913-B88B8DAB60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