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73814"/>
        <c:axId val="99477735"/>
      </c:barChart>
      <c:catAx>
        <c:axId val="139738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77735"/>
        <c:crosses val="autoZero"/>
        <c:auto val="1"/>
        <c:lblAlgn val="ctr"/>
        <c:lblOffset val="100"/>
        <c:noMultiLvlLbl val="0"/>
      </c:catAx>
      <c:valAx>
        <c:axId val="99477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738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43A-3B30-47ED-AF00-4007E035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3CC-D589-4388-B851-BD64140A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B1E-BE2C-46C7-872D-C8A3EC65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865-74B2-4432-AD30-25456170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5B3-C7B5-41FC-8546-53112905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FE40-9467-4A78-BCD8-7915D5FE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963-E4F5-4633-83C2-107150D0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270-D36B-4A70-B404-F6970380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6FC-578B-494C-9F00-41D34997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177-3098-4FEB-9CDF-E3E66319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2D6-80DE-4226-B3D5-385D440A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4EA-95B8-44A0-84E6-BBAAA299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FAD8B-6405-4988-BD67-19132B5678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