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5256"/>
        <c:axId val="77871969"/>
      </c:barChart>
      <c:catAx>
        <c:axId val="2535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1969"/>
        <c:crosses val="autoZero"/>
        <c:auto val="1"/>
        <c:lblAlgn val="ctr"/>
        <c:lblOffset val="100"/>
        <c:noMultiLvlLbl val="0"/>
      </c:catAx>
      <c:valAx>
        <c:axId val="77871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5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1AF-AA46-4DD5-B876-3F58F904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23A-B87D-44B8-AAE2-F2661D00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1CF-D7CD-4281-B136-0264F1A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A2D-8B25-499F-B747-0C3FB583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E5C-B335-49DE-9D64-FB0FE50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360-FF04-44DD-B4AD-19216C3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BAC-7711-4080-88A7-DB9D16A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6D7-B852-4845-BC1C-814B91A9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794-A753-4685-9318-1C7F1EF8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E52-9CA6-4AC1-807E-E1FC9BC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401-73FF-47BF-B7A9-1C2F27B4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5ED-66ED-401F-82FC-A8224DB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68511-1779-42C5-9DC1-6984708CE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