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15041"/>
        <c:axId val="41059568"/>
      </c:barChart>
      <c:catAx>
        <c:axId val="57015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59568"/>
        <c:crosses val="autoZero"/>
        <c:auto val="1"/>
        <c:lblAlgn val="ctr"/>
        <c:lblOffset val="100"/>
        <c:noMultiLvlLbl val="0"/>
      </c:catAx>
      <c:valAx>
        <c:axId val="41059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15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C0F-D6E8-4747-8EC9-CFBDA6F7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D10-246E-4732-9F25-481255AD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AEE-1C70-4B0C-92CA-586B9289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D28-2262-4373-8F48-96EDFA36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109-E60E-4BB3-B57D-D028E31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B68-3227-4BA7-8B63-434C671B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CE5-7B64-4390-B307-182F337F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53F-F6B0-462B-BBD9-5D8D304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560-AD10-4098-9B5F-252C2891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992-6D07-47E5-ACDA-C918D6C9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6D2-0A19-4668-A02D-D6FE883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934-1F90-44A4-85E0-D7372E9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8E32E-B6F1-4B26-A042-73AB97E03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