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5265"/>
        <c:axId val="27967500"/>
      </c:barChart>
      <c:catAx>
        <c:axId val="6445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7500"/>
        <c:crosses val="autoZero"/>
        <c:auto val="1"/>
        <c:lblAlgn val="ctr"/>
        <c:lblOffset val="100"/>
        <c:noMultiLvlLbl val="0"/>
      </c:catAx>
      <c:valAx>
        <c:axId val="27967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5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5B2-B554-449D-BBBA-7C5CE9BA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10F-C7C8-4BED-8ADE-56A0730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4F5-A54D-4903-B914-0AB8DDD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9F1-5FFA-4254-A579-4DE97C9E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D1F-BC12-4DE2-81D4-51A10E43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89C-7EFA-472B-9EFF-3DD8B53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908-6EA9-4AB1-879D-CE0FEB4F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4C3-5AFA-40CD-AE3A-6224A075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3B9-F319-4CB1-9443-60C3BB5B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432-A337-4CA3-9D78-59A824F7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D0F-3045-468D-980D-7C7D8133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A0D-EC66-4598-BA4E-1E950303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66954-C9C2-48CE-AC98-8EAEF5E57B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