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34248"/>
        <c:axId val="5735365"/>
      </c:barChart>
      <c:catAx>
        <c:axId val="11834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5365"/>
        <c:crosses val="autoZero"/>
        <c:auto val="1"/>
        <c:lblAlgn val="ctr"/>
        <c:lblOffset val="100"/>
        <c:noMultiLvlLbl val="0"/>
      </c:catAx>
      <c:valAx>
        <c:axId val="5735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34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690-D486-4387-90FE-55B8F133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B9D-AA84-4979-A111-17196D73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0B1-6DF9-4F6C-868D-F63F5C18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EB9-01C0-4092-8EF5-7C246698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41F-196C-4DF7-8184-CB5930E7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FF7-4F04-4D4F-816A-F8E7AE15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89C-F3BE-4D25-81C2-8D9C3FD8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0E1-E3D7-49D8-9178-5AA4B5A5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532-6D50-4874-817C-B82CC947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D0F-AB23-40A8-9010-873305C9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3EE-3005-457D-A375-D7DA8BE6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256-42F4-461B-94EA-5131471D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4BBA3-A7D7-4E50-BDF1-EAB9455094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