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76942"/>
        <c:axId val="62508167"/>
      </c:barChart>
      <c:catAx>
        <c:axId val="84876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8167"/>
        <c:crosses val="autoZero"/>
        <c:auto val="1"/>
        <c:lblAlgn val="ctr"/>
        <c:lblOffset val="100"/>
        <c:noMultiLvlLbl val="0"/>
      </c:catAx>
      <c:valAx>
        <c:axId val="62508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76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1C7-B965-46AC-919E-DB7543A1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8FF-3F5B-40C6-B4A4-18F69DF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146-82D5-45BE-BA77-5B4E8AF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CC0-7A30-43E3-BA59-BEFAD454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AEE-B2B7-41E9-88AB-079B901D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21A-A7F3-4353-8615-9A8514C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ACE-6476-453A-A3FA-4DB11BB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EF5-8046-4FD2-BF75-F3F9CA1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93C-25EC-40FF-8109-DC1FD3F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931-7AB6-4F47-8D8E-65A8CA3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858-30A8-4DCD-985B-9DEB42C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1D9-7A7C-4A94-B2A3-719A233D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EBDA2-3C93-4BE5-A105-A1C139EDF8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