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50922"/>
        <c:axId val="34961532"/>
      </c:barChart>
      <c:catAx>
        <c:axId val="18650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61532"/>
        <c:crosses val="autoZero"/>
        <c:auto val="1"/>
        <c:lblAlgn val="ctr"/>
        <c:lblOffset val="100"/>
        <c:noMultiLvlLbl val="0"/>
      </c:catAx>
      <c:valAx>
        <c:axId val="34961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50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36F-AE17-4B1E-81B0-53A57157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D6C-08F4-4195-BDC2-3A30553B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339-8786-4132-8F3A-38B20B21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146-C45A-4605-A60C-C36FD6CD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423-7382-4757-9375-15C348BA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C54-5254-4F99-9284-F503638C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6A7-2C20-4EB3-BC9D-3ADBC457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B72-788C-4D07-8C49-A64E33B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67B-9662-48AF-966F-110C9CB0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6E5-BCDC-4AB6-B6D3-D1BB5AD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8A5-E6C6-4926-8BF1-34097C2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1C8-68A2-44A5-8E59-AEF8296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961B9-B8CA-47D3-8FD9-A68ECDEF88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