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93997"/>
        <c:axId val="53378638"/>
      </c:barChart>
      <c:catAx>
        <c:axId val="86793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78638"/>
        <c:crosses val="autoZero"/>
        <c:auto val="1"/>
        <c:lblAlgn val="ctr"/>
        <c:lblOffset val="100"/>
        <c:noMultiLvlLbl val="0"/>
      </c:catAx>
      <c:valAx>
        <c:axId val="53378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93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ED0-1299-4362-B7D9-FCC2BE17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D83-D323-40A0-AE3C-3143610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C81-E7C1-4DF3-9330-EB9F899D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44C-87FD-4209-927C-CE188E20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10E-CA1E-4F79-BAFC-4A7E54A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386-0DB1-4884-BC2F-90A2F976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8BB-CB79-4964-9D5A-12C11FE7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774-F60E-4E16-BC22-0617AAAA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683-4A6E-4C72-AB4D-B928DD3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655-FAF7-475D-8ED8-D455D38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C34-463B-4AE6-B2CE-B926C1B8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AA2-64A1-44B7-8BDE-A3C51C3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E6496-7ACB-435F-A4D8-BAE110AD4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