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5865"/>
        <c:axId val="57759353"/>
      </c:barChart>
      <c:catAx>
        <c:axId val="9035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9353"/>
        <c:crosses val="autoZero"/>
        <c:auto val="1"/>
        <c:lblAlgn val="ctr"/>
        <c:lblOffset val="100"/>
        <c:noMultiLvlLbl val="0"/>
      </c:catAx>
      <c:valAx>
        <c:axId val="57759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5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A6C-F877-4F1A-8715-F3DD3036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E5A-663A-4E54-A04C-8B51A098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15F-E79F-4F19-963D-2FB74EA0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EA4-3F23-4B8E-8E94-68DCDF4C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EA5-6BBD-4458-8D5C-05FCF57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D1A-F7ED-4B7F-AEAC-3844FB8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8B9-41F6-4BEF-8F88-59F3859D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118-081F-46EE-A590-0B3400D1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6B9-5DFF-451D-B279-6C7AE725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E00-AD87-44CF-9F7D-4A13FC1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F42-CCA5-4D7F-A204-C2D86D8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A617-F2DD-40FE-A32E-27BF39D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EFA49-4078-4701-B2F5-9D8DD239F7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