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43053"/>
        <c:axId val="72146783"/>
      </c:barChart>
      <c:catAx>
        <c:axId val="63243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46783"/>
        <c:crosses val="autoZero"/>
        <c:auto val="1"/>
        <c:lblAlgn val="ctr"/>
        <c:lblOffset val="100"/>
        <c:noMultiLvlLbl val="0"/>
      </c:catAx>
      <c:valAx>
        <c:axId val="72146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43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672-5B22-439C-9D13-890EB37C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40A-BBD8-4173-B077-5135006F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23E-34AD-4378-8286-F6833242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D88-046A-46A0-9755-B1641B3C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2EB-BE7E-4DDA-908C-32AA1CA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EDC-D9B6-42FF-B600-16C1DF09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6A9-41CC-4B98-A029-56D1561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7A1-2899-46D6-B785-A527C19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2F0-080F-4CAB-8E71-895DEF32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23E-EB12-48B7-88C2-CECCDBC6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901-5441-4BE0-BA80-163DFB3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C35-1C32-4DE3-A661-D5F8C1CB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6BEDD-0F07-436E-8D0E-2D8BAAB26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